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AB6-EB55-4432-8FFB-20519F3F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E14-D361-42BA-A711-AE0FE925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A40-EF43-4CDA-A8A8-EB865038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9C5-A760-4DE8-AEF7-3832C989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F85C-23C3-436E-A439-D7F34525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F04A-E296-4BCF-92AA-217E1249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14A8-4145-487C-9025-8374214A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8D0C-6933-46E4-83B2-6737B32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7D28-0A23-4A79-BEFD-FA26B521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DAFC-DF5E-4281-8CB6-1BC3BAD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789B-A39E-4715-8F7B-88A3F35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454-1250-4346-A6BB-9BCA54B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D709-C569-47BB-A802-BC7A544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CD6A-5532-4A79-958F-37BCAE3B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F8A5-97C0-45F0-8F1F-4AB5B2C1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AA80-A99E-45AC-9FF5-39C8F222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5A19-EBA2-4168-8F25-7139F6C6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DF6-1C22-4CE5-8325-95CD3500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855-6C67-4EC2-8A9B-05CC3964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991-9B13-4C7F-B3B6-537BB994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01A-0537-4EF8-86E1-3A9068BE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03F-1B5D-4D15-A905-96E9FACA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265-8C09-4453-9DCA-F985172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11F-FE46-4C84-9901-912A701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3487-B56B-4FF7-84C7-444D864C9BAF}" type="slidenum">
              <a:rPr b="1" lang="tr-T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3F54-747E-425B-A63F-50C7ABED895E}" type="slidenum"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Times New Roman"/>
              </a:rPr>
              <a:t>YARAMAZ  KİRP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tavşan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4648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5" name="tavşan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209680" y="4724280"/>
            <a:ext cx="1782720" cy="2133720"/>
          </a:xfrm>
          <a:prstGeom prst="rect">
            <a:avLst/>
          </a:prstGeom>
          <a:ln w="0">
            <a:noFill/>
          </a:ln>
        </p:spPr>
      </p:pic>
      <p:pic>
        <p:nvPicPr>
          <p:cNvPr id="126" name="tavşan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0" y="274320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127" name="klip0000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410080" y="43434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NA01441_" descr=""/>
          <p:cNvPicPr/>
          <p:nvPr/>
        </p:nvPicPr>
        <p:blipFill>
          <a:blip r:embed="rId5"/>
          <a:stretch/>
        </p:blipFill>
        <p:spPr>
          <a:xfrm>
            <a:off x="3429000" y="137160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29" name="SO01038_" descr=""/>
          <p:cNvPicPr/>
          <p:nvPr/>
        </p:nvPicPr>
        <p:blipFill>
          <a:blip r:embed="rId6"/>
          <a:stretch/>
        </p:blipFill>
        <p:spPr>
          <a:xfrm>
            <a:off x="6813720" y="0"/>
            <a:ext cx="233028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NA01441_" descr=""/>
          <p:cNvPicPr/>
          <p:nvPr/>
        </p:nvPicPr>
        <p:blipFill>
          <a:blip r:embed="rId7"/>
          <a:stretch/>
        </p:blipFill>
        <p:spPr>
          <a:xfrm>
            <a:off x="2819520" y="160020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31" name="NA01441_" descr=""/>
          <p:cNvPicPr/>
          <p:nvPr/>
        </p:nvPicPr>
        <p:blipFill>
          <a:blip r:embed="rId8"/>
          <a:stretch/>
        </p:blipFill>
        <p:spPr>
          <a:xfrm>
            <a:off x="1676520" y="175248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NA01441_" descr=""/>
          <p:cNvPicPr/>
          <p:nvPr/>
        </p:nvPicPr>
        <p:blipFill>
          <a:blip r:embed="rId9"/>
          <a:stretch/>
        </p:blipFill>
        <p:spPr>
          <a:xfrm>
            <a:off x="2209680" y="9907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33" name="NA01441_" descr=""/>
          <p:cNvPicPr/>
          <p:nvPr/>
        </p:nvPicPr>
        <p:blipFill>
          <a:blip r:embed="rId10"/>
          <a:stretch/>
        </p:blipFill>
        <p:spPr>
          <a:xfrm>
            <a:off x="914400" y="9907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34" name="BD05219_" descr=""/>
          <p:cNvPicPr/>
          <p:nvPr/>
        </p:nvPicPr>
        <p:blipFill>
          <a:blip r:embed="rId11"/>
          <a:stretch/>
        </p:blipFill>
        <p:spPr>
          <a:xfrm>
            <a:off x="7313760" y="838080"/>
            <a:ext cx="366048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BD05219_" descr=""/>
          <p:cNvPicPr/>
          <p:nvPr/>
        </p:nvPicPr>
        <p:blipFill>
          <a:blip r:embed="rId12"/>
          <a:stretch/>
        </p:blipFill>
        <p:spPr>
          <a:xfrm>
            <a:off x="5638680" y="914400"/>
            <a:ext cx="3124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nasreddin%5B1%5D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6477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kanguru" descr="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kurbağa" descr=""/>
          <p:cNvPicPr/>
          <p:nvPr/>
        </p:nvPicPr>
        <p:blipFill>
          <a:blip r:embed="rId1"/>
          <a:stretch/>
        </p:blipFill>
        <p:spPr>
          <a:xfrm>
            <a:off x="121932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at_at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934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boyacı" descr=""/>
          <p:cNvPicPr/>
          <p:nvPr/>
        </p:nvPicPr>
        <p:blipFill>
          <a:blip r:embed="rId1"/>
          <a:stretch/>
        </p:blipFill>
        <p:spPr>
          <a:xfrm>
            <a:off x="3679920" y="2147760"/>
            <a:ext cx="1782720" cy="2560680"/>
          </a:xfrm>
          <a:prstGeom prst="rect">
            <a:avLst/>
          </a:prstGeom>
          <a:ln w="0">
            <a:noFill/>
          </a:ln>
        </p:spPr>
      </p:pic>
      <p:pic>
        <p:nvPicPr>
          <p:cNvPr id="172" name="20036_wallpaper280%5B1%5D" descr=""/>
          <p:cNvPicPr/>
          <p:nvPr/>
        </p:nvPicPr>
        <p:blipFill>
          <a:blip r:embed="rId2"/>
          <a:stretch/>
        </p:blipFill>
        <p:spPr>
          <a:xfrm>
            <a:off x="914400" y="5716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19747_wallpaper150%5B1%5D" descr=""/>
          <p:cNvPicPr/>
          <p:nvPr/>
        </p:nvPicPr>
        <p:blipFill>
          <a:blip r:embed="rId1"/>
          <a:stretch/>
        </p:blipFill>
        <p:spPr>
          <a:xfrm>
            <a:off x="685800" y="328680"/>
            <a:ext cx="800100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18788_wallpaper150%5B1%5D" descr=""/>
          <p:cNvPicPr/>
          <p:nvPr/>
        </p:nvPicPr>
        <p:blipFill>
          <a:blip r:embed="rId1"/>
          <a:stretch/>
        </p:blipFill>
        <p:spPr>
          <a:xfrm>
            <a:off x="685800" y="387360"/>
            <a:ext cx="79246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Eylul_belde_guven%5B1%5D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jingle%5B1%5D" descr=""/>
          <p:cNvPicPr/>
          <p:nvPr/>
        </p:nvPicPr>
        <p:blipFill>
          <a:blip r:embed="rId1"/>
          <a:stretch/>
        </p:blipFill>
        <p:spPr>
          <a:xfrm>
            <a:off x="762120" y="484200"/>
            <a:ext cx="77724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188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Bir  varmış,  bir yokmuş.  Üç  yavru  tavşan  varmış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Bir  gün  anne  tavşan,  kıra  gitmiş.  Minik  tavşanlar  da  evlerinin  önünde  oynamaya  başlamışla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Küçük kirpi,yanlarına  gelmiş.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- Tavşan  kardeşler,  ne  olur, ben  de  sizinle  oynayayım,  demiş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Üç  yavru  tavşan  ile  kirpi,  koşmaca  oynamaya  başlamışlar.  Kirpi,  ebe  oldum,  ebe  oldum  diye  kızmış.  Dikenlerini  kaldırmış.  Minik  tavşanlara  batırmış.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Tavşanların  canı  çok acımış. Ağlamışlar,  ağlamışlar.Bir  daha  kirpi  ile  oynamamışlar.</a:t>
            </a:r>
            <a:r>
              <a:rPr b="1" lang="tr-TR" sz="7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7200"/>
            </a:b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Küçük  kirpi, oyun  arkadaşı  bulamamış.  Bir  daha  yaramazlık  yapmamaya  karar  vermiş. 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838720" y="5715000"/>
            <a:ext cx="304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52920" y="586692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tv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salyango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03%20aslan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teknoresimsagmenu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kapak10%5B1%5D" descr=""/>
          <p:cNvPicPr/>
          <p:nvPr/>
        </p:nvPicPr>
        <p:blipFill>
          <a:blip r:embed="rId1"/>
          <a:stretch/>
        </p:blipFill>
        <p:spPr>
          <a:xfrm>
            <a:off x="990720" y="-152280"/>
            <a:ext cx="716256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8:32:02Z</dcterms:created>
  <dc:creator>xxxx</dc:creator>
  <dc:description/>
  <dc:language>en-US</dc:language>
  <cp:lastModifiedBy>xxxx</cp:lastModifiedBy>
  <dcterms:modified xsi:type="dcterms:W3CDTF">2002-05-01T20:04:23Z</dcterms:modified>
  <cp:revision>1</cp:revision>
  <dc:subject/>
  <dc:title>YARAMAZ  KİRPİ</dc:title>
</cp:coreProperties>
</file>