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11C-0663-480C-9372-0B8CFB6D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30C-449C-488E-99BE-023A1637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81D0-0D3A-438D-9EC8-F753BBCD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1EA-6F1D-4239-8387-1C352B9F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B92-5841-4427-9F3B-4D468105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1C0-6192-4196-82BB-60196719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A26-1F26-4C73-9274-B3ED6B15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032-7EB4-40A3-813C-634B19CB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9D2-A782-4267-940B-5935C0C7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739-5A50-4B83-AA8B-0B5A00C4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37E-EBA2-4518-A61F-80601C9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0D6-E1CE-4292-A746-0E2338AF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B838-02BD-4438-9995-8A57FDA31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838080" y="533520"/>
          <a:ext cx="921996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533520"/>
                    <a:ext cx="92199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648320" y="160020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ğa tehlikeli viraj; Sağa dönemeçli bir kesime yaklaşıldığını bildirir. Sürücüler hızını azaltır, duruklama ve park yapamazlar. Öndeki aracı geçemez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-1219320" y="1719360"/>
          <a:ext cx="8777520" cy="39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1719360"/>
                    <a:ext cx="87775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876920" y="1066680"/>
            <a:ext cx="365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L VER: Ana yoldan gelen araçlara ilk geçiş hakkının verilmesi gerektiğini bildir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2362320" y="1447920"/>
          <a:ext cx="10150560" cy="35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62320" y="1447920"/>
                    <a:ext cx="1015056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648320" y="914400"/>
            <a:ext cx="3886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RŞIDAN GELENE YOL VER; iki aracıngüvenle yan yana geçemeyeceği kadar daralmış yol kesiminde, karşı yönden gelen araca geçiş kolaylığı sağlanması gerektiğini bildir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37:46Z</dcterms:created>
  <dc:creator>hüseyin</dc:creator>
  <dc:description/>
  <dc:language>en-US</dc:language>
  <cp:lastModifiedBy>hüseyin</cp:lastModifiedBy>
  <dcterms:modified xsi:type="dcterms:W3CDTF">2001-12-31T10:52:23Z</dcterms:modified>
  <cp:revision>2</cp:revision>
  <dc:subject/>
  <dc:title>Slayt Başlığı Yok</dc:title>
</cp:coreProperties>
</file>