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Özel Gösteri 1" id="0">
      <p:sldLst>
        <p:sld r:id="rId9"/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8B9-20F8-47B8-9FD5-07E028AA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0C7-6226-4489-B3BC-8EF3158E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E56-5E41-43F0-A39A-5A8D70D2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BFE-2A85-4232-8BF4-25606647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A81-77A9-48AF-B6E4-4EE184EA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6A9-8833-4BE5-A179-37CEB014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CCE-EF79-46EF-9427-48C2CDC9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980-3E40-4706-B442-D7F94A04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42B-6262-4E04-B137-88F5C4B2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96B-19F8-4C1F-A676-9AB231BB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AA0-8BDC-4E7B-A307-10E3880E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41D-2263-4C43-80F4-11BF0944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4A66-BA90-4780-826F-4C4C75224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191448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ırmızı ışıkta du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rı ışıkta hazır 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şil ışıkta ge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3541680"/>
            <a:ext cx="3809880" cy="993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İKK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 otomob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rleşim yeri içinde(km/s):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rleşim yeri dışında(km/s):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oyolda(km/s):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ürkiye’ de meydana gelen trafik kazaların kusur oranlar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22096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33520" y="380880"/>
            <a:ext cx="7696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em ŞAHİN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3105000"/>
            <a:ext cx="7162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8-A NO:8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1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206800"/>
            <a:ext cx="3810240" cy="993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niyet kemeri takmadan yola çıkma!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ollü araç kullanmayı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224160" cy="335304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1919160" cy="2819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8390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2743200"/>
            <a:ext cx="3733560" cy="1828800"/>
          </a:xfrm>
          <a:prstGeom prst="cloudCallout">
            <a:avLst>
              <a:gd name="adj1" fmla="val -19898"/>
              <a:gd name="adj2" fmla="val 358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levhasını gördüğünü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a durunu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 YOLDA GİDERKEN ANİDEN ÖNÜNÜZE HAYVAN ÇIKABİLİ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3352680"/>
          <a:ext cx="312408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2680"/>
                    <a:ext cx="31240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86200" y="4267080"/>
            <a:ext cx="1981080" cy="80640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19520" y="1066680"/>
            <a:ext cx="4343400" cy="1524240"/>
          </a:xfrm>
          <a:prstGeom prst="cloudCallout">
            <a:avLst>
              <a:gd name="adj1" fmla="val -10087"/>
              <a:gd name="adj2" fmla="val 380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ik kurallarına uyalı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ymayanları uyaral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a taşıtlarının izlediği yol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a yolu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318280" cy="308628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 taşıtların izlediği yol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niz yolu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94120" y="1828800"/>
            <a:ext cx="3154320" cy="395460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 yolları üzerinde yapılan ulaşım türün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ara yolu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laşım den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546960" cy="170640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09:25:51Z</dcterms:created>
  <dc:creator>okul</dc:creator>
  <dc:description/>
  <dc:language>en-US</dc:language>
  <cp:lastModifiedBy>okul</cp:lastModifiedBy>
  <dcterms:modified xsi:type="dcterms:W3CDTF">2002-05-08T15:41:04Z</dcterms:modified>
  <cp:revision>11</cp:revision>
  <dc:subject/>
  <dc:title>Slayt Başlığı Yok</dc:title>
</cp:coreProperties>
</file>